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B1C-3EF2-436B-AFE6-9614E3BF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78A-6FCB-40CB-B6A2-309C3A61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77E-6FD0-48F5-9102-DD6E0B09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2BC-46D6-422C-9587-857F2BCD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2E2-A2F4-407D-9E12-6383BF7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48F-CED1-4BC5-9F21-3010CFA8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32B-77DB-4869-962A-73057A68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E1D-CFBE-4887-8A8E-0E7609B8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559-52EB-42E1-9528-8545A264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119-1A94-4CAC-9C4B-EC52F2C7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73B-238D-4EC7-A0B7-3B99A568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38C-3951-4E4B-9003-6CE27E57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0389-B61C-43B4-84A7-25F3FE9A2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s: Arial 12pt          Lines: 1.75pt          Zoom: 66%          width: Preferred &lt;518px; Max 560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819520"/>
            <a:ext cx="1828800" cy="137160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PC23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7 B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controll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50532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124080"/>
            <a:ext cx="533160" cy="76212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0532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000" y="32004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0560" y="3200400"/>
            <a:ext cx="4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5295600" y="2933640"/>
            <a:ext cx="1219320" cy="1143000"/>
          </a:xfrm>
          <a:prstGeom prst="triangle">
            <a:avLst>
              <a:gd name="adj" fmla="val 50000"/>
            </a:avLst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9000" y="3276720"/>
            <a:ext cx="6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505320"/>
            <a:ext cx="6098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ound"/>
          <p:cNvSpPr/>
          <p:nvPr/>
        </p:nvSpPr>
        <p:spPr>
          <a:xfrm>
            <a:off x="7010280" y="2971800"/>
            <a:ext cx="1067040" cy="1123920"/>
          </a:xfrm>
          <a:prstGeom prst="pie">
            <a:avLst/>
          </a:prstGeom>
          <a:solidFill>
            <a:srgbClr val="e0e0e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9:33:50Z</dcterms:created>
  <dc:creator>Brett Duke</dc:creator>
  <dc:description/>
  <dc:language>en-US</dc:language>
  <cp:lastModifiedBy>Jim Earle</cp:lastModifiedBy>
  <dcterms:modified xsi:type="dcterms:W3CDTF">2007-12-17T13:39:53Z</dcterms:modified>
  <cp:revision>35</cp:revision>
  <dc:subject/>
  <dc:title>Generic Block Diagram</dc:title>
</cp:coreProperties>
</file>