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02E30-4EDF-44F6-9BC2-308CC9C34F62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B5D7D-427F-464C-B4D3-E0BCC6CF2C6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11E7-6435-4011-8A45-37279925E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6BF6F-B973-4DBB-955E-17D4B2EB1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864C-3900-41F2-85CC-AA6408770E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DC76C-247C-440A-8F84-F938415C4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E5DE-CDC4-40BF-834E-C29B81DA0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23ED-08B2-4506-88E1-7B1284B7A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A0209-5599-4BC9-9970-AC1BBB515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0839-ACE7-4B1C-9B63-5563002CC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4382A-52A0-4FD4-892C-020C9E1F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1D878-3346-4357-AF1A-F77FD2B3B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710F-AA07-47C6-964F-1EC55B9E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15C-B015-4846-B796-0C254696A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B6DCB-3EAD-435C-A639-2E1DE99E2AC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3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Creating our own MQX based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585880"/>
            <a:ext cx="5715000" cy="27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Create a new EWARM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MQX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dd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Setting up project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Build and debu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Some consider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3"/>
          <p:cNvSpPr/>
          <p:nvPr/>
        </p:nvSpPr>
        <p:spPr>
          <a:xfrm>
            <a:off x="642960" y="2286000"/>
            <a:ext cx="7715160" cy="450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en creating an MQX based project there are many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ngs we need to consid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e will not worry about most of them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ut just the few mentioned below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Use a EWARM Workspace with only the application, 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  or the application and MQX library?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batch builds or not?</a:t>
            </a:r>
            <a:br>
              <a:rPr sz="2400"/>
            </a:b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What libraries/modules of MQX will I be us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857160"/>
            <a:ext cx="63579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What we will d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2286000"/>
            <a:ext cx="771516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a Workspace with just our own MQX based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dd libraries and create our MQX application c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t up our project options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d and debug our applic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dd the BSP and PSP library projects to our 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reate one Debug and one Release Batch build for our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642960" y="154080"/>
            <a:ext cx="6357960" cy="10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Our MQX applic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3"/>
          <p:cNvSpPr/>
          <p:nvPr/>
        </p:nvSpPr>
        <p:spPr>
          <a:xfrm>
            <a:off x="642960" y="1582560"/>
            <a:ext cx="7715160" cy="438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example application will be very similar to the Hello2 example application included in MQX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 will however create our own project from scratch in order to se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ll the steps needed to create your own MQX based application.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t a minimum we will need to define one task and the the array “MQX_template_list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Our application will have two task. One that start automatically, and the other is created and started by the first tas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4" name="Title 1"/>
          <p:cNvSpPr/>
          <p:nvPr/>
        </p:nvSpPr>
        <p:spPr>
          <a:xfrm>
            <a:off x="642960" y="476280"/>
            <a:ext cx="5857920" cy="106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nk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Rectangle 3"/>
          <p:cNvSpPr/>
          <p:nvPr/>
        </p:nvSpPr>
        <p:spPr>
          <a:xfrm>
            <a:off x="468360" y="1484280"/>
            <a:ext cx="7715160" cy="41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So far we have only built libraries for MQX and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have not had to consider linking our applica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To make sure that all the parts of MQX and our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application is located correctly in memory we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use the linker configuration file (*.icf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Easiest is to use one of the premade ICF file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WARM and MQX located at;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 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mqx\source\bsp\twrk60n512\iar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for example “</a:t>
            </a:r>
            <a:r>
              <a:rPr b="1" lang="en-US" sz="2000" spc="-1" strike="noStrike">
                <a:solidFill>
                  <a:srgbClr val="808080"/>
                </a:solidFill>
                <a:latin typeface="Arial"/>
              </a:rPr>
              <a:t>intflash.icf</a:t>
            </a: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8" name="Title 1"/>
          <p:cNvSpPr/>
          <p:nvPr/>
        </p:nvSpPr>
        <p:spPr>
          <a:xfrm>
            <a:off x="642960" y="476280"/>
            <a:ext cx="585792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memory layou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Rectangle 3"/>
          <p:cNvSpPr/>
          <p:nvPr/>
        </p:nvSpPr>
        <p:spPr>
          <a:xfrm>
            <a:off x="2124000" y="4060800"/>
            <a:ext cx="345600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LASHX_POO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XTSE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FMPROT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intve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2124000" y="1387440"/>
            <a:ext cx="3456000" cy="243540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ERNEL_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ER_DEFAULT_MEM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vector_r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Rectangle 3"/>
          <p:cNvSpPr/>
          <p:nvPr/>
        </p:nvSpPr>
        <p:spPr>
          <a:xfrm>
            <a:off x="324000" y="4060800"/>
            <a:ext cx="1726920" cy="1820880"/>
          </a:xfrm>
          <a:prstGeom prst="rect">
            <a:avLst/>
          </a:prstGeom>
          <a:solidFill>
            <a:srgbClr val="ffee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7 FFF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0000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324000" y="1387440"/>
            <a:ext cx="1726920" cy="21916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2000 FFF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x1FFF 00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ounded Rectangular Callout 1"/>
          <p:cNvSpPr/>
          <p:nvPr/>
        </p:nvSpPr>
        <p:spPr>
          <a:xfrm>
            <a:off x="6084720" y="3213000"/>
            <a:ext cx="2664000" cy="432000"/>
          </a:xfrm>
          <a:prstGeom prst="wedgeRoundRectCallout">
            <a:avLst>
              <a:gd name="adj1" fmla="val -160949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Fir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ounded Rectangular Callout 9"/>
          <p:cNvSpPr/>
          <p:nvPr/>
        </p:nvSpPr>
        <p:spPr>
          <a:xfrm>
            <a:off x="6084720" y="1341360"/>
            <a:ext cx="2664000" cy="432000"/>
          </a:xfrm>
          <a:prstGeom prst="wedgeRoundRectCallout">
            <a:avLst>
              <a:gd name="adj1" fmla="val -146736"/>
              <a:gd name="adj2" fmla="val -6995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Rounded Rectangular Callout 10"/>
          <p:cNvSpPr/>
          <p:nvPr/>
        </p:nvSpPr>
        <p:spPr>
          <a:xfrm>
            <a:off x="6237360" y="5445000"/>
            <a:ext cx="2511360" cy="432000"/>
          </a:xfrm>
          <a:prstGeom prst="wedgeRoundRectCallout">
            <a:avLst>
              <a:gd name="adj1" fmla="val -176162"/>
              <a:gd name="adj2" fmla="val 11958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Always at address 0x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Rounded Rectangular Callout 11"/>
          <p:cNvSpPr/>
          <p:nvPr/>
        </p:nvSpPr>
        <p:spPr>
          <a:xfrm>
            <a:off x="6237360" y="4060800"/>
            <a:ext cx="2511360" cy="433440"/>
          </a:xfrm>
          <a:prstGeom prst="wedgeRoundRectCallout">
            <a:avLst>
              <a:gd name="adj1" fmla="val -134328"/>
              <a:gd name="adj2" fmla="val -19629"/>
              <a:gd name="adj3" fmla="val 16667"/>
            </a:avLst>
          </a:prstGeom>
          <a:solidFill>
            <a:srgbClr val="ff0000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df5d5"/>
                </a:solidFill>
                <a:latin typeface="Calibri"/>
              </a:rPr>
              <a:t>Last in ROM/Flas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8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9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05Z</dcterms:modified>
  <cp:revision>211</cp:revision>
  <dc:subject/>
  <dc:title>Slide 1</dc:title>
</cp:coreProperties>
</file>