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move the slide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5405-27C8-493A-8F34-F818161B1B2C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8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6775B-3D33-464F-BAA3-68F17411BAC9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9723-A86C-432B-983D-7A63759BB4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302E5-E812-4C2F-A4A0-FD08568D9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E0AC0-5DFD-4056-BAA6-D74EE3B767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CEC5-6A81-4E2F-93B0-D66B27CF03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2F52-DE14-404F-80C6-D1DC2CAE6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E2F08-76D1-4E64-8F54-9C9221CBA2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D24E-77EC-45A9-BFE8-63FF1599E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9F6FC-ABCF-46E0-94DD-52D34B625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3A13-6D61-4BBF-BCFC-6B2D9DFE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0524F-E653-40D9-94F2-174284665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BCCC-25C6-4C53-AA81-32D56C846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C5B10-673B-4A9B-80C0-FD3A386F0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37913-3915-4BF8-B3B5-E67C61DB2472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Start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41d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blå2.jpg"/>
          <p:cNvPicPr/>
          <p:nvPr/>
        </p:nvPicPr>
        <p:blipFill>
          <a:blip r:embed="rId2"/>
          <a:stretch/>
        </p:blipFill>
        <p:spPr>
          <a:xfrm>
            <a:off x="7653240" y="0"/>
            <a:ext cx="149076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41d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blå2.jpg"/>
          <p:cNvPicPr/>
          <p:nvPr/>
        </p:nvPicPr>
        <p:blipFill>
          <a:blip r:embed="rId2"/>
          <a:stretch/>
        </p:blipFill>
        <p:spPr>
          <a:xfrm>
            <a:off x="7653240" y="0"/>
            <a:ext cx="149076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9" descr="Start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42600" y="4000320"/>
            <a:ext cx="5715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ffff"/>
                </a:solidFill>
                <a:latin typeface="Gill Sans MT"/>
              </a:rPr>
              <a:t>Session 4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20" name="Title 1"/>
          <p:cNvSpPr/>
          <p:nvPr/>
        </p:nvSpPr>
        <p:spPr>
          <a:xfrm>
            <a:off x="642960" y="5000760"/>
            <a:ext cx="57150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ffffff"/>
                </a:solidFill>
                <a:latin typeface="Gill Sans MT"/>
              </a:rPr>
              <a:t>Mats Pettersson, Sr FAE IAR Systems 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22" name="Title 1"/>
          <p:cNvSpPr/>
          <p:nvPr/>
        </p:nvSpPr>
        <p:spPr>
          <a:xfrm>
            <a:off x="642960" y="549360"/>
            <a:ext cx="635796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More project managmen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Rectangle 3"/>
          <p:cNvSpPr/>
          <p:nvPr/>
        </p:nvSpPr>
        <p:spPr>
          <a:xfrm>
            <a:off x="539640" y="1844640"/>
            <a:ext cx="7715520" cy="359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Add a second application project to our Workspace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Add new Batch Builds to handle the different application projects</a:t>
            </a:r>
            <a:br>
              <a:rPr sz="2000"/>
            </a:b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Using pre/post-build to automate the build proc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  <a:ea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  <a:ea typeface="Arial"/>
              </a:rPr>
              <a:t>Get our web pages re-compil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99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xtending the Embedded Workbench tool chain</a:t>
            </a:r>
            <a:br>
              <a:rPr sz="2000"/>
            </a:b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About header include files in EWARM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25" name="Title 1"/>
          <p:cNvSpPr/>
          <p:nvPr/>
        </p:nvSpPr>
        <p:spPr>
          <a:xfrm>
            <a:off x="642960" y="549360"/>
            <a:ext cx="788976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More Batch Builds to our Workspac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Box 1"/>
          <p:cNvSpPr/>
          <p:nvPr/>
        </p:nvSpPr>
        <p:spPr>
          <a:xfrm>
            <a:off x="551520" y="2205000"/>
            <a:ext cx="2799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1 -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1 -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2 -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2 -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P –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P –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P –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P –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CS –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CE -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5"/>
          <p:cNvSpPr/>
          <p:nvPr/>
        </p:nvSpPr>
        <p:spPr>
          <a:xfrm>
            <a:off x="3485160" y="2949480"/>
            <a:ext cx="18511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 1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 2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TextBox 6"/>
          <p:cNvSpPr/>
          <p:nvPr/>
        </p:nvSpPr>
        <p:spPr>
          <a:xfrm>
            <a:off x="5577480" y="2205000"/>
            <a:ext cx="27990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P –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P –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P –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P –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CS –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CE -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1 -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1 -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2 -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2 -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2"/>
          <p:cNvSpPr/>
          <p:nvPr/>
        </p:nvSpPr>
        <p:spPr>
          <a:xfrm>
            <a:off x="3476520" y="2949480"/>
            <a:ext cx="1868760" cy="335160"/>
          </a:xfrm>
          <a:prstGeom prst="rect">
            <a:avLst/>
          </a:prstGeom>
          <a:solidFill>
            <a:srgbClr val="7f7f7f">
              <a:alpha val="29000"/>
            </a:srgbClr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TextBox 9"/>
          <p:cNvSpPr/>
          <p:nvPr/>
        </p:nvSpPr>
        <p:spPr>
          <a:xfrm>
            <a:off x="5591160" y="2949480"/>
            <a:ext cx="26146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P –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P –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CE -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1 -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2 -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TextBox 10"/>
          <p:cNvSpPr/>
          <p:nvPr/>
        </p:nvSpPr>
        <p:spPr>
          <a:xfrm>
            <a:off x="5591160" y="2924280"/>
            <a:ext cx="26146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P –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P –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CE -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1 -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TextBox 11"/>
          <p:cNvSpPr/>
          <p:nvPr/>
        </p:nvSpPr>
        <p:spPr>
          <a:xfrm>
            <a:off x="5577480" y="2924280"/>
            <a:ext cx="2799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SP –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SP –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TCS –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2 - Rele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13"/>
          <p:cNvSpPr/>
          <p:nvPr/>
        </p:nvSpPr>
        <p:spPr>
          <a:xfrm>
            <a:off x="3495600" y="3309840"/>
            <a:ext cx="1868400" cy="335160"/>
          </a:xfrm>
          <a:prstGeom prst="rect">
            <a:avLst/>
          </a:prstGeom>
          <a:solidFill>
            <a:srgbClr val="7f7f7f">
              <a:alpha val="29000"/>
            </a:srgbClr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Rectangle 14"/>
          <p:cNvSpPr/>
          <p:nvPr/>
        </p:nvSpPr>
        <p:spPr>
          <a:xfrm>
            <a:off x="3492360" y="3597120"/>
            <a:ext cx="1866960" cy="336600"/>
          </a:xfrm>
          <a:prstGeom prst="rect">
            <a:avLst/>
          </a:prstGeom>
          <a:solidFill>
            <a:srgbClr val="7f7f7f">
              <a:alpha val="29000"/>
            </a:srgbClr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15"/>
          <p:cNvSpPr/>
          <p:nvPr/>
        </p:nvSpPr>
        <p:spPr>
          <a:xfrm>
            <a:off x="3492360" y="3957480"/>
            <a:ext cx="1866960" cy="335160"/>
          </a:xfrm>
          <a:prstGeom prst="rect">
            <a:avLst/>
          </a:prstGeom>
          <a:solidFill>
            <a:srgbClr val="7f7f7f">
              <a:alpha val="29000"/>
            </a:srgbClr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Box 7"/>
          <p:cNvSpPr/>
          <p:nvPr/>
        </p:nvSpPr>
        <p:spPr>
          <a:xfrm>
            <a:off x="616680" y="1773360"/>
            <a:ext cx="840744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ct – Configuration       Batch Build                Project-Configuration build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ight Arrow 12"/>
          <p:cNvSpPr/>
          <p:nvPr/>
        </p:nvSpPr>
        <p:spPr>
          <a:xfrm>
            <a:off x="4819680" y="1773360"/>
            <a:ext cx="544320" cy="368280"/>
          </a:xfrm>
          <a:prstGeom prst="rightArrow">
            <a:avLst>
              <a:gd name="adj1" fmla="val 50000"/>
              <a:gd name="adj2" fmla="val 50204"/>
            </a:avLst>
          </a:prstGeom>
          <a:solidFill>
            <a:srgbClr val="bfbfbf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1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2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2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2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4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3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35" dur="1" fill="hold"/>
                                  <p:tgtEl>
                                    <p:spTgt spid="535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  <p:set>
                                <p:cBhvr>
                                  <p:cTn id="36" dur="1" fill="hold"/>
                                  <p:tgtEl>
                                    <p:spTgt spid="53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39" name="Title 1"/>
          <p:cNvSpPr/>
          <p:nvPr/>
        </p:nvSpPr>
        <p:spPr>
          <a:xfrm>
            <a:off x="642960" y="549360"/>
            <a:ext cx="635796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Build ac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539640" y="1700280"/>
            <a:ext cx="771552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41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You can add both pre- and post-build actions to a 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For MQX libraries we already use </a:t>
            </a:r>
            <a:r>
              <a:rPr b="1" lang="sv-SE" sz="2400" spc="-1" strike="noStrike">
                <a:solidFill>
                  <a:srgbClr val="808080"/>
                </a:solidFill>
                <a:latin typeface="Gill Sans MT"/>
              </a:rPr>
              <a:t>post-build</a:t>
            </a: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 to copy </a:t>
            </a:r>
            <a:br>
              <a:rPr sz="2400"/>
            </a:b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  files to a specific lo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For our web server application we will create a </a:t>
            </a:r>
            <a:r>
              <a:rPr b="1" lang="sv-SE" sz="2400" spc="-1" strike="noStrike">
                <a:solidFill>
                  <a:srgbClr val="808080"/>
                </a:solidFill>
                <a:latin typeface="Gill Sans MT"/>
              </a:rPr>
              <a:t>pre-build</a:t>
            </a:r>
            <a:br>
              <a:rPr sz="2400"/>
            </a:b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  action that will convert web pages to C arrays that we</a:t>
            </a:r>
            <a:br>
              <a:rPr sz="2400"/>
            </a:b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  include when building our project.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 For this we will make a modified version of the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 mktfs.bat bat file that comes with MQX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mktfs.bat calles the MQX tool mktfs.exe to convert</a:t>
            </a:r>
            <a:br>
              <a:rPr sz="2400"/>
            </a:b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  web pages into C arrys in the file tfs_data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42" name="Title 1"/>
          <p:cNvSpPr/>
          <p:nvPr/>
        </p:nvSpPr>
        <p:spPr>
          <a:xfrm>
            <a:off x="642960" y="549360"/>
            <a:ext cx="635796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Using pre-buil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3"/>
          <p:cNvSpPr/>
          <p:nvPr/>
        </p:nvSpPr>
        <p:spPr>
          <a:xfrm>
            <a:off x="539640" y="1484280"/>
            <a:ext cx="4537080" cy="1567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REM  *** mktfsEW.bat ***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cd %1\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..\..\..\tools\mktfs.exe web_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Box 1"/>
          <p:cNvSpPr/>
          <p:nvPr/>
        </p:nvSpPr>
        <p:spPr>
          <a:xfrm>
            <a:off x="558360" y="3395520"/>
            <a:ext cx="4885200" cy="36828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"$PROJ_DIR$\..\mktfsEW.bat" "$PROJ_DIR$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ounded Rectangular Callout 2"/>
          <p:cNvSpPr/>
          <p:nvPr/>
        </p:nvSpPr>
        <p:spPr>
          <a:xfrm>
            <a:off x="6227640" y="1628640"/>
            <a:ext cx="2521080" cy="1295640"/>
          </a:xfrm>
          <a:prstGeom prst="wedgeRoundRectCallout">
            <a:avLst>
              <a:gd name="adj1" fmla="val -126972"/>
              <a:gd name="adj2" fmla="val -17523"/>
              <a:gd name="adj3" fmla="val 16667"/>
            </a:avLst>
          </a:prstGeom>
          <a:solidFill>
            <a:srgbClr val="c9cbce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our bat file that we call from the IDE’s pre-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ounded Rectangular Callout 6"/>
          <p:cNvSpPr/>
          <p:nvPr/>
        </p:nvSpPr>
        <p:spPr>
          <a:xfrm>
            <a:off x="6227640" y="3068640"/>
            <a:ext cx="2521080" cy="865080"/>
          </a:xfrm>
          <a:prstGeom prst="wedgeRoundRectCallout">
            <a:avLst>
              <a:gd name="adj1" fmla="val -86898"/>
              <a:gd name="adj2" fmla="val 4587"/>
              <a:gd name="adj3" fmla="val 16667"/>
            </a:avLst>
          </a:prstGeom>
          <a:solidFill>
            <a:srgbClr val="c9cbce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s is the command line we use in pre-buil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TextBox 3"/>
          <p:cNvSpPr/>
          <p:nvPr/>
        </p:nvSpPr>
        <p:spPr>
          <a:xfrm>
            <a:off x="365760" y="4221000"/>
            <a:ext cx="8363160" cy="201420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PROJ_DIR$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an EWARM IDE variable that expands to the location of the current project fi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TOOLKIT_DIR$ - Embedded Workbench installation direct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EXE_DIR$ - the directory for executable 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ny more available!. See the EWARM IDE guide, section “Argument variables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49" name="Title 1"/>
          <p:cNvSpPr/>
          <p:nvPr/>
        </p:nvSpPr>
        <p:spPr>
          <a:xfrm>
            <a:off x="642960" y="549360"/>
            <a:ext cx="635796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Extending the toolcha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3"/>
          <p:cNvSpPr/>
          <p:nvPr/>
        </p:nvSpPr>
        <p:spPr>
          <a:xfrm>
            <a:off x="539640" y="1700280"/>
            <a:ext cx="7715520" cy="567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IAR Embedded Workbench provides a feature—Custom Build—which lets you extend the standard toolchai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This feature is used for executing external tools and you can make these tools execute each time specific files in your project have chang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This option is, if used, specified for each project and is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setup in: 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Project options -&gt; Custom Build</a:t>
            </a: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We could use this tool to create C arrays from HTML files.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If we did, then we could just add a HTML file to our projec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tree and this custom build tool would generate the C arra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just before the C files are compiled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52" name="Title 1"/>
          <p:cNvSpPr/>
          <p:nvPr/>
        </p:nvSpPr>
        <p:spPr>
          <a:xfrm>
            <a:off x="642960" y="549360"/>
            <a:ext cx="7612200" cy="10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About the Workspace project tre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539640" y="1700280"/>
            <a:ext cx="7715520" cy="776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Gill Sans MT"/>
              </a:rPr>
              <a:t>Header files added to the project tree are not included in the build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Rectangle 3"/>
          <p:cNvSpPr/>
          <p:nvPr/>
        </p:nvSpPr>
        <p:spPr>
          <a:xfrm>
            <a:off x="539640" y="2666880"/>
            <a:ext cx="7715520" cy="15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The compiler and assembler will only search the standard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include directories, plus the additional directories specified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in the their “Preprocessor” op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5" name="Picture 2" descr=""/>
          <p:cNvPicPr/>
          <p:nvPr/>
        </p:nvPicPr>
        <p:blipFill>
          <a:blip r:embed="rId2"/>
          <a:stretch/>
        </p:blipFill>
        <p:spPr>
          <a:xfrm>
            <a:off x="642960" y="3789360"/>
            <a:ext cx="4856040" cy="2160720"/>
          </a:xfrm>
          <a:prstGeom prst="rect">
            <a:avLst/>
          </a:prstGeom>
          <a:ln w="0">
            <a:noFill/>
          </a:ln>
        </p:spPr>
      </p:pic>
      <p:sp>
        <p:nvSpPr>
          <p:cNvPr id="556" name="Rounded Rectangular Callout 1"/>
          <p:cNvSpPr/>
          <p:nvPr/>
        </p:nvSpPr>
        <p:spPr>
          <a:xfrm>
            <a:off x="4397400" y="5157720"/>
            <a:ext cx="4443480" cy="792360"/>
          </a:xfrm>
          <a:prstGeom prst="wedgeRoundRectCallout">
            <a:avLst>
              <a:gd name="adj1" fmla="val -75763"/>
              <a:gd name="adj2" fmla="val -22925"/>
              <a:gd name="adj3" fmla="val 16667"/>
            </a:avLst>
          </a:prstGeom>
          <a:solidFill>
            <a:srgbClr val="ffee74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s cm.h might, or might not, be used during the buil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Rounded Rectangular Callout 7"/>
          <p:cNvSpPr/>
          <p:nvPr/>
        </p:nvSpPr>
        <p:spPr>
          <a:xfrm>
            <a:off x="5292720" y="4221000"/>
            <a:ext cx="3548160" cy="792360"/>
          </a:xfrm>
          <a:prstGeom prst="wedgeRoundRectCallout">
            <a:avLst>
              <a:gd name="adj1" fmla="val -139675"/>
              <a:gd name="adj2" fmla="val 51162"/>
              <a:gd name="adj3" fmla="val 16667"/>
            </a:avLst>
          </a:prstGeom>
          <a:solidFill>
            <a:srgbClr val="ffee74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o find the cm.h used, expand cm.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556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59" name="Title 1"/>
          <p:cNvSpPr/>
          <p:nvPr/>
        </p:nvSpPr>
        <p:spPr>
          <a:xfrm>
            <a:off x="539640" y="404640"/>
            <a:ext cx="820908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700" spc="-1" strike="noStrike">
                <a:solidFill>
                  <a:srgbClr val="ff9900"/>
                </a:solidFill>
                <a:latin typeface="Gill Sans MT"/>
              </a:rPr>
              <a:t>About MQX projects and user_config.h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Rectangle 3"/>
          <p:cNvSpPr/>
          <p:nvPr/>
        </p:nvSpPr>
        <p:spPr>
          <a:xfrm>
            <a:off x="4572000" y="1700280"/>
            <a:ext cx="3960720" cy="17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Be careful if you add header file to your proje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In most cases this is not a good idea</a:t>
            </a: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Picture 3" descr=""/>
          <p:cNvPicPr/>
          <p:nvPr/>
        </p:nvPicPr>
        <p:blipFill>
          <a:blip r:embed="rId2"/>
          <a:stretch/>
        </p:blipFill>
        <p:spPr>
          <a:xfrm>
            <a:off x="395280" y="1700280"/>
            <a:ext cx="3816360" cy="2155680"/>
          </a:xfrm>
          <a:prstGeom prst="rect">
            <a:avLst/>
          </a:prstGeom>
          <a:ln w="0">
            <a:noFill/>
          </a:ln>
        </p:spPr>
      </p:pic>
      <p:sp>
        <p:nvSpPr>
          <p:cNvPr id="562" name="Rectangle 3"/>
          <p:cNvSpPr/>
          <p:nvPr/>
        </p:nvSpPr>
        <p:spPr>
          <a:xfrm>
            <a:off x="566640" y="4149720"/>
            <a:ext cx="7966080" cy="259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For MQX libraries, adding user_config.h is a great idea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This is because user_config.h is being copied to new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locations and it is easy to modify the wrong user_config.h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64" name="Title 1"/>
          <p:cNvSpPr/>
          <p:nvPr/>
        </p:nvSpPr>
        <p:spPr>
          <a:xfrm>
            <a:off x="642960" y="857160"/>
            <a:ext cx="58579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Hands-on session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Picture 3" descr="IAR09_CD5.jpg"/>
          <p:cNvPicPr/>
          <p:nvPr/>
        </p:nvPicPr>
        <p:blipFill>
          <a:blip r:embed="rId2"/>
          <a:srcRect l="1271" t="1347" r="48052" b="1463"/>
          <a:stretch/>
        </p:blipFill>
        <p:spPr>
          <a:xfrm>
            <a:off x="6286680" y="642960"/>
            <a:ext cx="28573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3T11:55:24Z</dcterms:created>
  <dc:creator>Marie Gylldorff</dc:creator>
  <dc:description/>
  <dc:language>en-US</dc:language>
  <cp:lastModifiedBy>Mats Pettersson</cp:lastModifiedBy>
  <dcterms:modified xsi:type="dcterms:W3CDTF">2012-10-28T18:04:12Z</dcterms:modified>
  <cp:revision>214</cp:revision>
  <dc:subject/>
  <dc:title>Slide 1</dc:title>
</cp:coreProperties>
</file>